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27.jpeg" ContentType="image/jpeg"/>
  <Override PartName="/ppt/media/image3.wmf" ContentType="image/x-wmf"/>
  <Override PartName="/ppt/media/image9.jpeg" ContentType="image/jpeg"/>
  <Override PartName="/ppt/media/image2.png" ContentType="image/png"/>
  <Override PartName="/ppt/media/image25.png" ContentType="image/png"/>
  <Override PartName="/ppt/media/image4.wmf" ContentType="image/x-wmf"/>
  <Override PartName="/ppt/media/image28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4.png" ContentType="image/png"/>
  <Override PartName="/ppt/media/image22.jpeg" ContentType="image/jpeg"/>
  <Override PartName="/ppt/media/image1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5C46-CD90-4F78-9780-E0A12B34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A3C-255D-4398-91F7-E6C30AE0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88F-D52D-4EE3-90A9-5B1485F2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959-E89A-4A97-AC2F-4160FCFF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A31D-FF58-4587-99F2-D78F6C01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5CC8-20D6-4A4C-92AC-DEBB4D8B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43DC-7F68-4146-9D74-4D39A9FC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EC98-4CD7-4144-9A72-2B710067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C53F-12A8-460B-8DF8-D656DBFF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D5B7-2982-4072-93E8-023AF3D8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CEE8-820B-4FED-8269-4F3120AF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275-6D93-4EBF-8EF3-B746F4CB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6409-0301-4013-AA54-F75BB1EC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5168-58E4-46A3-94E8-7033E806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1586-FEF5-4DBC-83DE-198CCAF3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8D56-9EB5-44B4-B6FE-4C77C89A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F5F1-43A5-454D-95B4-6A45D14D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2ED-1B7C-41D8-A2EE-11CCD01F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B35-8BE2-4E9C-BB02-6D6F2742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6AF-CA75-47B6-A190-6567B770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00D-BBB1-4E36-A879-7A867336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A36-5F82-4F25-8F0C-9FE9B11B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D47-0225-4AC7-9140-14B83494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549-FA8D-4F3E-849B-F1F9277B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FCC0-D22A-4313-A7CC-4521EC35E2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F0F5-FA20-4A1B-965D-9BCDCE41AA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pitec.org.ar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90720" y="1594080"/>
            <a:ext cx="716256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rebuchet MS"/>
                <a:ea typeface="Arial"/>
              </a:rPr>
              <a:t>I CONGRESO ARGENTINO DE TECNOLOGIA DE LA INFORMACION Y 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rebuchet MS"/>
                <a:ea typeface="Arial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Análisis de Rendimiento para Soluciones de Cloud Computing</a:t>
            </a:r>
            <a:r>
              <a:rPr b="1" lang="es-AR" sz="2400" spc="-1" strike="noStrike">
                <a:solidFill>
                  <a:srgbClr val="000000"/>
                </a:solidFill>
                <a:latin typeface="Trebuchet MS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rebuchet MS"/>
                <a:ea typeface="Arial"/>
              </a:rPr>
              <a:t>Autor: Mg. Ing. Marcelo Damián Parr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  <a:ea typeface="Arial"/>
              </a:rPr>
              <a:t>21 / 10 /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457200"/>
            <a:ext cx="6230880" cy="719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1600200"/>
            <a:ext cx="68580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Amazon Web Services (EC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WS provee capacidad computacional virtual con posibilidad de crecimiento en la n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mazon EC2 permite computar dentro de la n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mazon S3 permite almacenar dentro de la n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servicio es elástico: brinda la posibilidad de incrementar o reducir la capacidad de las instancias en cuestión de minuto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mazon Web Servi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Benchmarks: Whetsto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Diseñado por Brian Wichman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Primer benchmark sintético, basado en el análisis de 949 programas científ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Primera implementación </a:t>
            </a:r>
            <a:r>
              <a:rPr b="0" lang="es-A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 Fortran, 197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Mide la velocidad de ejecución de una variedad de instrucciones de punto flotante en datos escalares o vectori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Intenta estimar la velocidad de la CPU con la Unidad de Punto Flotante (FPU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Benchmarks: Dhrysto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8288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Diseñado por Reinkol Weicker (1984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Benchmark sintético representativo de sistemas que manejan enter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Contiene muchas instrucciones simples, llamadas a procedimiento y condicionales, y pocas de coma flotante y buc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Intenta medir la velocidad del sistema en cuanto a rendimiento no numér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Benchmarks: Linpa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8288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Desarrollado por Jack Dongarra (197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Propósito original: resolver sistemas de ecuacio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Uso muy intensivo de las operaciones de coma flotan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Mayor parte del tiempo ejecutando BLAS (Subrutinas de Álgebra Lineal Básic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Describe la performance para resolver un problema de matrices genera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Desarrollo: Fra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90720" y="1371600"/>
          <a:ext cx="7391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7391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Desarrollo: Google App Eng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Herramientas de desarrollo Java y de estándares API comu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SDK de Google App Engine cuenta con un plugin para el entorno de desarrollo Eclipse, permitiendo crear, probar y subir aplicaciones de App Engine desde el propio I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Incluye una aplicación de servidor Web que emula todos los servicios de App Engine desde el equipo lo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Desarrollo: Google App Eng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Desarrollo: Microsoft Az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SDK para Visual Studio de Windows Azure proporciona un entorno simulado para el desarrollo y prueba de servicios en el equipo loc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Development stora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Development fab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zure provee soporte para diferentes lenguajes de la familia .N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Se decidió utilizar el lenguaje C# dada su similitud con 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Desarrollo: Microsoft Az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Proposi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6400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vestigar algunos de los posibles algoritmos aplicables al análisis de rendimiento de soluciones disponibles de “Cloud Computing”, para poder evaluar el rendimiento comparado de cada una de e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leccionar el conjunto de algoritmos más adecuado, ajustarlo y probarlo para evaluar de un manera objetiva las soluciones de “Computación en la Nube” de diferentes proveedores del mercado, logrando una visión más clara y objetiva de las capacidades de computo provistas por cada uno de el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43800" y="289548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781680" y="3733920"/>
            <a:ext cx="1940040" cy="1676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58000" y="1523880"/>
            <a:ext cx="1824120" cy="11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Desarrollo: Amazon EC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WS Toolkit incluye un plugin de código abierto para Eclipse que facilita el desarrollo, la depuración e implementación de aplicaciones Java utilizando Amazon Web Servic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Se decidió utilizar una Java Web Starter AMI (“Amazon Machine Image”) provista por A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edora Core 8 de 32 bits, Java JDK 7, Tomcat 5.5, 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Apache 2.2.9 y MySQL 5.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Desarrollo: Amazon EC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1514520"/>
            <a:ext cx="83059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Ejecución: Google App Eng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0" y="1752480"/>
          <a:ext cx="4114800" cy="2016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et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329 mseg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3,29 mseg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9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57200" y="4038480"/>
          <a:ext cx="4038480" cy="2129040"/>
        </p:xfrm>
        <a:graphic>
          <a:graphicData uri="http://schemas.openxmlformats.org/drawingml/2006/table">
            <a:tbl>
              <a:tblPr/>
              <a:tblGrid>
                <a:gridCol w="2203560"/>
                <a:gridCol w="1834920"/>
              </a:tblGrid>
              <a:tr h="425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hry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57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,57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648320" y="4038480"/>
          <a:ext cx="4038480" cy="2130480"/>
        </p:xfrm>
        <a:graphic>
          <a:graphicData uri="http://schemas.openxmlformats.org/drawingml/2006/table">
            <a:tbl>
              <a:tblPr/>
              <a:tblGrid>
                <a:gridCol w="2203200"/>
                <a:gridCol w="1835280"/>
              </a:tblGrid>
              <a:tr h="425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p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49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,49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6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457200" y="1719360"/>
            <a:ext cx="38862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Arial"/>
              </a:rPr>
              <a:t>Resultados de los benchmarks ejecutados en Google App Eng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6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Ejecución: Microsoft Az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48320" y="1719360"/>
          <a:ext cx="4038480" cy="2176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et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602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6,02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9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57200" y="4000680"/>
          <a:ext cx="4038480" cy="2130120"/>
        </p:xfrm>
        <a:graphic>
          <a:graphicData uri="http://schemas.openxmlformats.org/drawingml/2006/table">
            <a:tbl>
              <a:tblPr/>
              <a:tblGrid>
                <a:gridCol w="2189160"/>
                <a:gridCol w="1849320"/>
              </a:tblGrid>
              <a:tr h="425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hry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412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4,12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0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648320" y="4000680"/>
          <a:ext cx="4038480" cy="2130120"/>
        </p:xfrm>
        <a:graphic>
          <a:graphicData uri="http://schemas.openxmlformats.org/drawingml/2006/table">
            <a:tbl>
              <a:tblPr/>
              <a:tblGrid>
                <a:gridCol w="2189160"/>
                <a:gridCol w="1849320"/>
              </a:tblGrid>
              <a:tr h="425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p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28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,28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6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457200" y="1719360"/>
            <a:ext cx="38862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Arial"/>
              </a:rPr>
              <a:t>Resultados de los benchmarks ejecutados en Microsoft Az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3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Ejecución: Amazon EC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48320" y="1719360"/>
          <a:ext cx="4038480" cy="21812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et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590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5,9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3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57200" y="4000680"/>
          <a:ext cx="4038480" cy="2130120"/>
        </p:xfrm>
        <a:graphic>
          <a:graphicData uri="http://schemas.openxmlformats.org/drawingml/2006/table">
            <a:tbl>
              <a:tblPr/>
              <a:tblGrid>
                <a:gridCol w="2189160"/>
                <a:gridCol w="1849320"/>
              </a:tblGrid>
              <a:tr h="425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hry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143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1,43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9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648320" y="4000680"/>
          <a:ext cx="4038480" cy="2130120"/>
        </p:xfrm>
        <a:graphic>
          <a:graphicData uri="http://schemas.openxmlformats.org/drawingml/2006/table">
            <a:tbl>
              <a:tblPr/>
              <a:tblGrid>
                <a:gridCol w="2189160"/>
                <a:gridCol w="1849320"/>
              </a:tblGrid>
              <a:tr h="425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p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80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,8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2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457200" y="1719360"/>
            <a:ext cx="38862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Arial"/>
              </a:rPr>
              <a:t>Resultados de los benchmarks ejecutados en Amazon EC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Evaluación de las prueb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686800" cy="1323720"/>
        </p:xfrm>
        <a:graphic>
          <a:graphicData uri="http://schemas.openxmlformats.org/drawingml/2006/table">
            <a:tbl>
              <a:tblPr/>
              <a:tblGrid>
                <a:gridCol w="1828800"/>
                <a:gridCol w="2514600"/>
                <a:gridCol w="2133720"/>
                <a:gridCol w="2209680"/>
              </a:tblGrid>
              <a:tr h="58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tstone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gle App 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rosoft Az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azon E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3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6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28600" y="3429000"/>
          <a:ext cx="8686800" cy="1330200"/>
        </p:xfrm>
        <a:graphic>
          <a:graphicData uri="http://schemas.openxmlformats.org/drawingml/2006/table">
            <a:tbl>
              <a:tblPr/>
              <a:tblGrid>
                <a:gridCol w="1828800"/>
                <a:gridCol w="2514600"/>
                <a:gridCol w="2171880"/>
                <a:gridCol w="2171520"/>
              </a:tblGrid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hrystone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gle App 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rosoft Az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azon E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1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228600" y="5122800"/>
          <a:ext cx="8686800" cy="1263600"/>
        </p:xfrm>
        <a:graphic>
          <a:graphicData uri="http://schemas.openxmlformats.org/drawingml/2006/table">
            <a:tbl>
              <a:tblPr/>
              <a:tblGrid>
                <a:gridCol w="1828800"/>
                <a:gridCol w="2514600"/>
                <a:gridCol w="2171880"/>
                <a:gridCol w="2171520"/>
              </a:tblGrid>
              <a:tr h="52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npack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gle App 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rosoft Az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azon E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3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Análisis de resultados (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62120" y="1447920"/>
          <a:ext cx="7772400" cy="52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77240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Análisis de resultados (I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09480" y="1447920"/>
          <a:ext cx="7772400" cy="523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72400" cy="52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Análisis de resultados (II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3520" y="1363680"/>
          <a:ext cx="7924680" cy="534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63680"/>
                    <a:ext cx="79246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Evaluación de resulta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Google App Engine fue claramente superior a las otras dos alternativas (Amazon EC2 y Microsoft Azure) en Whetstone y Dhryst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En el benchmark Linpack Google App Engine fue mínimamente superado en ocasiones por Microsoft Az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Google App Engine es la mejor alternativa de cómputo en la nu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mínimos tiempos de ejecu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mejores tiempos máxi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mejores tiempos promed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Investigación - </a:t>
            </a:r>
            <a:r>
              <a:rPr b="1" lang="es-AR" sz="2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69343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nvestigar puntualmente algunos de los algoritmos disponibles junto con sus posibles optimizaciones  y mejoras, que permitan obtener datos objetivos para el análisis de rendimiento de las soluciones de “Cloud Comput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sarrollar una aplicación de software que implemente las pruebas de rendimiento planteadas, registrando los resultados para su posterior análisis y 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valuar y analizar los resultados obtenidos a partir de la implementación de las pruebas. El análisis de los resultados permitirá evaluar el desempeño y rendimiento objetivo de las soluciones disponibles de “Cloud Comput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543800" y="327672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81960" y="1600200"/>
            <a:ext cx="1028520" cy="1087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91440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Conclus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1629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Se definió un conjunto de tres pruebas ampliamente difundidas (Whetstone, Dhrystone y Linpack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desarrolló un Framework de pruebas que simplificara el desarrollo de las pruebas de software plante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Framework se puede aplicar a cualquier solución de Cloud Computing que permita la ejecución de un “Web Servic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Útil como puntapié inicial para la evaluación y comparación del poder computacional en soluciones de Cloud Comput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696080" y="1371600"/>
            <a:ext cx="801720" cy="838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696080" y="2666880"/>
            <a:ext cx="801720" cy="838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696080" y="3962520"/>
            <a:ext cx="801720" cy="838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7696080" y="5257800"/>
            <a:ext cx="801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Conclus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1629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realizó la evaluación de los resultados obtenidos y se pudo comprobar las diferencias de rendimiento computacional de cada una de las “nub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solución más costosa en el ámbito monetario no asegura la mejor performance a nivel de procesamiento para una aplicación en parti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debe aplicarse para la selección de un proveedor si el núcleo de la aplicación que se ejecutará en la Nube no tiene un componente crítico de procesamiento comput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696080" y="1371600"/>
            <a:ext cx="801720" cy="838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696080" y="3048120"/>
            <a:ext cx="80172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7696080" y="4724280"/>
            <a:ext cx="8017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Futuras Líneas de Investig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Extensión del Framework para soportar benchmarks y pruebas relacionadas con el almacenamiento de datos en la nu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Optimización e incorporación de otros benchmarks reconocidos para obtener resultados mas detall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Desarrollo de pruebas inéditas que utilicen llamadas a funciones específicas de las APIs disponibles para cada nube comput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Implementación del Framework en otros lenguajes de programación, permitiendo comparar el rendimiento del conjunto de pruebas en una misma nube, pero en un lenguaje e intérprete difer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914400" y="914400"/>
            <a:ext cx="7902720" cy="4303800"/>
            <a:chOff x="914400" y="914400"/>
            <a:chExt cx="7902720" cy="4303800"/>
          </a:xfrm>
        </p:grpSpPr>
        <p:graphicFrame>
          <p:nvGraphicFramePr>
            <p:cNvPr id="249" name=""/>
            <p:cNvGraphicFramePr/>
            <p:nvPr/>
          </p:nvGraphicFramePr>
          <p:xfrm>
            <a:off x="6095880" y="4419720"/>
            <a:ext cx="2721240" cy="755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4419720"/>
                      <a:ext cx="2721240" cy="75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1" name=""/>
            <p:cNvSpPr/>
            <p:nvPr/>
          </p:nvSpPr>
          <p:spPr>
            <a:xfrm>
              <a:off x="3657600" y="2438280"/>
              <a:ext cx="1600200" cy="14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862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4600" spc="-1" strike="noStrike">
                  <a:solidFill>
                    <a:srgbClr val="00549c"/>
                  </a:solidFill>
                  <a:latin typeface="Monotype Corsiva"/>
                  <a:ea typeface="Arial"/>
                </a:rPr>
                <a:t>Gracias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34320" y="388620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800" spc="-1" strike="noStrike">
                  <a:solidFill>
                    <a:srgbClr val="400097"/>
                  </a:solidFill>
                  <a:latin typeface="Rockwell"/>
                  <a:ea typeface="Arial"/>
                </a:rPr>
                <a:t>Mer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81080" y="388620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800" spc="-1" strike="noStrike">
                  <a:solidFill>
                    <a:srgbClr val="0000a0"/>
                  </a:solidFill>
                  <a:latin typeface="Verdana"/>
                  <a:ea typeface="Arial"/>
                </a:rPr>
                <a:t>Graz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9920" y="1828800"/>
              <a:ext cx="1912680" cy="10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638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3400" spc="-1" strike="noStrike">
                  <a:solidFill>
                    <a:srgbClr val="800044"/>
                  </a:solidFill>
                  <a:latin typeface="Garamond"/>
                  <a:ea typeface="Arial"/>
                </a:rPr>
                <a:t>Thank You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77120" y="2743200"/>
              <a:ext cx="13446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2400" spc="-1" strike="noStrike">
                  <a:solidFill>
                    <a:srgbClr val="004c6d"/>
                  </a:solidFill>
                  <a:latin typeface="Comic Sans MS"/>
                  <a:ea typeface="Arial"/>
                </a:rPr>
                <a:t>Obrig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38680" y="3505320"/>
              <a:ext cx="73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800" spc="-1" strike="noStrike">
                  <a:solidFill>
                    <a:srgbClr val="005100"/>
                  </a:solidFill>
                  <a:latin typeface="Nimrod"/>
                  <a:ea typeface="Arial"/>
                </a:rPr>
                <a:t>Dank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1905120" y="1987560"/>
              <a:ext cx="1673280" cy="2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2766960" y="4599000"/>
              <a:ext cx="301788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62520" y="5029200"/>
              <a:ext cx="6904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Japoné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9040" y="3024360"/>
              <a:ext cx="59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Españ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43600" y="4118040"/>
              <a:ext cx="84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Francé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90920" y="2286000"/>
              <a:ext cx="100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Ru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35720" y="3762360"/>
              <a:ext cx="846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Alemá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08080" y="4191120"/>
              <a:ext cx="67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Italia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53080" y="2286000"/>
              <a:ext cx="646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62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900" spc="-1" strike="noStrike">
                  <a:solidFill>
                    <a:srgbClr val="0000a0"/>
                  </a:solidFill>
                  <a:latin typeface="Arial"/>
                  <a:ea typeface="Arial"/>
                </a:rPr>
                <a:t>Inglé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91160" y="3164040"/>
              <a:ext cx="118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Portugué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5"/>
            <a:stretch/>
          </p:blipFill>
          <p:spPr>
            <a:xfrm>
              <a:off x="1246320" y="2819520"/>
              <a:ext cx="94284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143000" y="3352680"/>
              <a:ext cx="1197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200" spc="-1" strike="noStrike">
                  <a:solidFill>
                    <a:srgbClr val="0000a0"/>
                  </a:solidFill>
                  <a:latin typeface="Arial"/>
                  <a:ea typeface="Arial"/>
                </a:rPr>
                <a:t>Ára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86200" y="1600200"/>
              <a:ext cx="121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Chino Tradic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33920" y="4267080"/>
              <a:ext cx="12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Chino Simplifi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6"/>
            <a:stretch/>
          </p:blipFill>
          <p:spPr>
            <a:xfrm>
              <a:off x="3792600" y="3635280"/>
              <a:ext cx="127152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3760920" y="930240"/>
              <a:ext cx="1252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8"/>
            <a:stretch/>
          </p:blipFill>
          <p:spPr>
            <a:xfrm>
              <a:off x="1398600" y="1066680"/>
              <a:ext cx="136836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523880" y="1371600"/>
              <a:ext cx="1074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Hindú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9"/>
            <a:stretch/>
          </p:blipFill>
          <p:spPr>
            <a:xfrm>
              <a:off x="914400" y="4643280"/>
              <a:ext cx="137016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143000" y="5029200"/>
              <a:ext cx="9907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Tam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0"/>
            <a:stretch/>
          </p:blipFill>
          <p:spPr>
            <a:xfrm>
              <a:off x="5818320" y="914400"/>
              <a:ext cx="21985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351480" y="1600200"/>
              <a:ext cx="116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62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900" spc="-1" strike="noStrike">
                  <a:solidFill>
                    <a:srgbClr val="0000a0"/>
                  </a:solidFill>
                  <a:latin typeface="Arial"/>
                  <a:ea typeface="Arial"/>
                </a:rPr>
                <a:t>Tailandé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8000" y="5029200"/>
              <a:ext cx="604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Corea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79560" y="1158840"/>
              <a:ext cx="72356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2400" spc="-1" strike="noStrike">
                  <a:solidFill>
                    <a:srgbClr val="7889fb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ubOvalCallout"/>
          <p:cNvSpPr/>
          <p:nvPr/>
        </p:nvSpPr>
        <p:spPr>
          <a:xfrm>
            <a:off x="2971800" y="2362320"/>
            <a:ext cx="2971800" cy="2247840"/>
          </a:xfrm>
          <a:custGeom>
            <a:avLst/>
            <a:gdLst>
              <a:gd name="textAreaLeft" fmla="*/ 434880 w 2971800"/>
              <a:gd name="textAreaRight" fmla="*/ 2536920 w 2971800"/>
              <a:gd name="textAreaTop" fmla="*/ 246960 h 2247840"/>
              <a:gd name="textAreaBottom" fmla="*/ 1440000 h 22478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Pregunt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505320" y="2514600"/>
            <a:ext cx="8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600" spc="-1" strike="noStrike">
                <a:solidFill>
                  <a:srgbClr val="000000"/>
                </a:solidFill>
                <a:latin typeface="Tahoma"/>
              </a:rPr>
              <a:t>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98280" y="2362320"/>
            <a:ext cx="70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Computación en la Nub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Es un paradigma que permite ofrecer servicios de computación a través de Internet. Todo se ofrece como serv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Los usuarios pueden acceder a los servicios disponibles en la nube sin la necesidad de gestionar los recursos que aquellos servicios utiliz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Ofrece una infraestructura de TI capaz de escalar prácticamente de manera ilimitada para cubrir la demanda de los usu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Computación en la Nub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" descr="Archivo:Cloud computing.svg"/>
          <p:cNvPicPr/>
          <p:nvPr/>
        </p:nvPicPr>
        <p:blipFill>
          <a:blip r:embed="rId1"/>
          <a:stretch/>
        </p:blipFill>
        <p:spPr>
          <a:xfrm>
            <a:off x="1143000" y="1752480"/>
            <a:ext cx="66913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Google App Eng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Permite ejecutar aplicaciones Web en la infraestructura de Goog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dmite aplicaciones escritas en varios lenguajes de programació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Java, Python, Ruby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Ofrece un servicio de almacenamiento de datos distribuido que incluye un motor de búsqueda y transaccio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Se puede utilizar de forma totalmente gratu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300" spc="-1" strike="noStrike">
                <a:solidFill>
                  <a:srgbClr val="330066"/>
                </a:solidFill>
                <a:latin typeface="Arial"/>
              </a:rPr>
              <a:t>Google App Engin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gae-1"/>
          <p:cNvPicPr/>
          <p:nvPr/>
        </p:nvPicPr>
        <p:blipFill>
          <a:blip r:embed="rId1"/>
          <a:stretch/>
        </p:blipFill>
        <p:spPr>
          <a:xfrm>
            <a:off x="914400" y="1676520"/>
            <a:ext cx="708660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Microsoft Windows Az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Sistema operativo basado en Cloud Servic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Brinda funciones que proporcionan soporte para el desarrollo, el alojamiento de servicios remotos y la gestión del propio sistema, todo ello en la n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rquitectura dividida en cap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600" spc="-1" strike="noStrike">
                <a:solidFill>
                  <a:srgbClr val="000000"/>
                </a:solidFill>
                <a:latin typeface="Arial"/>
              </a:rPr>
              <a:t>Capa 0: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 Global Foundational Services (GF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600" spc="-1" strike="noStrike">
                <a:solidFill>
                  <a:srgbClr val="000000"/>
                </a:solidFill>
                <a:latin typeface="Arial"/>
              </a:rPr>
              <a:t>Capa 1: 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Gestión y coordinación de N máqui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600" spc="-1" strike="noStrike">
                <a:solidFill>
                  <a:srgbClr val="000000"/>
                </a:solidFill>
                <a:latin typeface="Arial"/>
              </a:rPr>
              <a:t>Capa 2: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 Servicios para la creación de aplic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600" spc="-1" strike="noStrike">
                <a:solidFill>
                  <a:srgbClr val="000000"/>
                </a:solidFill>
                <a:latin typeface="Arial"/>
              </a:rPr>
              <a:t>Capa 3: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 Aplicaciones alojadas dentro de Azu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Microsoft Windows Az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Windows Azure"/>
          <p:cNvPicPr/>
          <p:nvPr/>
        </p:nvPicPr>
        <p:blipFill>
          <a:blip r:embed="rId1"/>
          <a:stretch/>
        </p:blipFill>
        <p:spPr>
          <a:xfrm>
            <a:off x="533520" y="20574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2:43:07Z</dcterms:created>
  <dc:creator>Marcelo Damián Parrino</dc:creator>
  <dc:description/>
  <cp:keywords/>
  <dc:language>en-US</dc:language>
  <cp:lastModifiedBy>Damián Parrino</cp:lastModifiedBy>
  <dcterms:modified xsi:type="dcterms:W3CDTF">2010-10-20T12:48:09Z</dcterms:modified>
  <cp:revision>280</cp:revision>
  <dc:subject/>
  <dc:title>Trabajo Final de Grad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561033</vt:lpwstr>
  </property>
</Properties>
</file>